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13.wmf" ContentType="image/x-wmf"/>
  <Override PartName="/ppt/media/image50.wmf" ContentType="image/x-wmf"/>
  <Override PartName="/ppt/media/image40.wmf" ContentType="image/x-wmf"/>
  <Override PartName="/ppt/media/image41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2B97-AF38-4E10-91D8-570F7841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784-34FF-4DF9-8DE3-8E50EF31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6C3F-6EE2-470E-9F64-321ADA3E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432E-B5D1-4105-94BF-43030EFF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14D3-5A96-410D-A508-A3263332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88DD-0DF9-4D14-A06F-930DE6ED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224E-53AC-4429-A389-2C262644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DF3F-1F52-4D46-AB7D-12FFBFE9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939-FD2C-4BB9-A0F1-A1A03E15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624F-E9ED-4D6C-8ED7-624AA70B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4178-5E23-4222-ADF1-26A803325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9775-5C12-4E39-A76A-8C9D3963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3AD5-95AA-4683-B502-74AFA2849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igonometry Quiz 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ne, Cosine and Tang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f the full Special Angle 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give the correct answer to each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to specify when an answer is nega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052640" y="1219320"/>
          <a:ext cx="46321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19320"/>
                    <a:ext cx="46321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52560" y="1219320"/>
          <a:ext cx="48337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219320"/>
                    <a:ext cx="48337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1052640" y="1219320"/>
          <a:ext cx="46321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19320"/>
                    <a:ext cx="46321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152360" y="2075040"/>
          <a:ext cx="443232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2075040"/>
                    <a:ext cx="44323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052640" y="1219320"/>
          <a:ext cx="46321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19320"/>
                    <a:ext cx="46321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154160" y="1219320"/>
          <a:ext cx="44305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219320"/>
                    <a:ext cx="44305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52640" y="1219320"/>
          <a:ext cx="46321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19320"/>
                    <a:ext cx="46321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454040" y="2125800"/>
          <a:ext cx="3826080" cy="130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2125800"/>
                    <a:ext cx="3826080" cy="13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1554120" y="2075040"/>
          <a:ext cx="362736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4120" y="2075040"/>
                    <a:ext cx="362736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1103400" y="1219320"/>
          <a:ext cx="45306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219320"/>
                    <a:ext cx="453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05080" y="1219320"/>
          <a:ext cx="3927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7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1052640" y="1219320"/>
          <a:ext cx="46321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19320"/>
                    <a:ext cx="46321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405080" y="1219320"/>
          <a:ext cx="3927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7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1052640" y="1219320"/>
          <a:ext cx="46321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19320"/>
                    <a:ext cx="46321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103400" y="1219320"/>
          <a:ext cx="45306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219320"/>
                    <a:ext cx="453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1504800" y="2075040"/>
          <a:ext cx="372600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2075040"/>
                    <a:ext cx="37260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1052640" y="1219320"/>
          <a:ext cx="46321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19320"/>
                    <a:ext cx="46321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1152360" y="1219320"/>
          <a:ext cx="44323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1219320"/>
                    <a:ext cx="44323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1103400" y="1219320"/>
          <a:ext cx="45306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219320"/>
                    <a:ext cx="453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1103400" y="1219320"/>
          <a:ext cx="45306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219320"/>
                    <a:ext cx="453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604880" y="2075040"/>
          <a:ext cx="352440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4880" y="2075040"/>
                    <a:ext cx="35244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1052640" y="1219320"/>
          <a:ext cx="46321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19320"/>
                    <a:ext cx="46321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052640" y="1219320"/>
          <a:ext cx="46321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19320"/>
                    <a:ext cx="46321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1555920" y="2075040"/>
          <a:ext cx="362412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55920" y="2075040"/>
                    <a:ext cx="362412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103400" y="1219320"/>
          <a:ext cx="45306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219320"/>
                    <a:ext cx="453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455840" y="2225520"/>
          <a:ext cx="382572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2225520"/>
                    <a:ext cx="382572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103400" y="1219320"/>
          <a:ext cx="45306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219320"/>
                    <a:ext cx="453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103400" y="1219320"/>
          <a:ext cx="45306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219320"/>
                    <a:ext cx="453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1103400" y="1219320"/>
          <a:ext cx="45306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219320"/>
                    <a:ext cx="453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204920" y="2075040"/>
          <a:ext cx="432900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2075040"/>
                    <a:ext cx="432900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353960" y="1219320"/>
          <a:ext cx="4027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1219320"/>
                    <a:ext cx="4027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405080" y="1219320"/>
          <a:ext cx="39258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58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1017720" y="1219320"/>
          <a:ext cx="46306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7720" y="1219320"/>
                    <a:ext cx="46306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103400" y="1219320"/>
          <a:ext cx="453060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219320"/>
                    <a:ext cx="453060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1154160" y="1219320"/>
          <a:ext cx="44290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219320"/>
                    <a:ext cx="4429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852480" y="1219320"/>
          <a:ext cx="50338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2480" y="1219320"/>
                    <a:ext cx="50338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05080" y="1219320"/>
          <a:ext cx="392724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1219320"/>
                    <a:ext cx="39272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1154160" y="1219320"/>
          <a:ext cx="44290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219320"/>
                    <a:ext cx="44290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154160" y="2075040"/>
          <a:ext cx="4429080" cy="141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2075040"/>
                    <a:ext cx="4429080" cy="14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852480" y="1219320"/>
          <a:ext cx="503388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2480" y="1219320"/>
                    <a:ext cx="503388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52640" y="1219320"/>
          <a:ext cx="46321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19320"/>
                    <a:ext cx="46321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54160" y="1219320"/>
          <a:ext cx="44305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4160" y="1219320"/>
                    <a:ext cx="44305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052640" y="1219320"/>
          <a:ext cx="46321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19320"/>
                    <a:ext cx="46321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052640" y="1219320"/>
          <a:ext cx="4632120" cy="312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2640" y="1219320"/>
                    <a:ext cx="46321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9:23:02Z</dcterms:created>
  <dc:creator> John</dc:creator>
  <dc:description/>
  <dc:language>en-US</dc:language>
  <cp:lastModifiedBy> John</cp:lastModifiedBy>
  <dcterms:modified xsi:type="dcterms:W3CDTF">2009-02-04T21:06:22Z</dcterms:modified>
  <cp:revision>6</cp:revision>
  <dc:subject/>
  <dc:title>Slide 1</dc:title>
</cp:coreProperties>
</file>